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FE6-AD89-415D-9BAB-F4047E29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518-C2B3-48EA-B648-D80AD5B4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FAB-7A90-4547-98A7-16A813FD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3BE-2FD7-4694-8F49-827E4C3E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CF38-631D-4185-95CC-26B44C27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2C6F-AA64-4AA2-B687-3280E0DE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B344-9E78-4A0E-B935-FEA21239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0582-2A36-4BC0-B2CB-691A0513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E721-04D9-479D-8798-9A7D4454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2EAF-3592-4763-8D2F-DAF237D0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B8A1-BE14-4DAC-9547-2892AE2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9BE-EF0A-4C96-810F-7E51CE61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EB64-BD0C-4B9D-B0D1-1C8EBAE8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AC6D-2FF1-4186-9AE5-18A8488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ACEC-0225-449B-9A4C-778382C4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3072-6995-44E4-8265-102E0E94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4902-4216-4488-B54B-A954EF36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C95-4F9B-4343-8F68-50987E36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BA5-1A18-4457-BBFF-767D30BC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87F-3625-4FDA-8442-34137D2E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C57-CABF-4190-A4BC-DCF45D6C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F21-793D-48E8-9849-2D6CD96F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6C3-F214-4EBA-A2A9-90A33162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2AA-80F1-4C9B-8B4D-F1DEF554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7F76-111D-46AD-90C9-3FA39D7E80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07A5-A1C8-4B61-8B1D-F702975098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rabstol_ru_4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kk-KZ" sz="4800" spc="-1" strike="noStrike">
                <a:solidFill>
                  <a:srgbClr val="ffffcc"/>
                </a:solidFill>
                <a:latin typeface="Times New Roman"/>
              </a:rPr>
              <a:t>Тақырыбы №3:</a:t>
            </a:r>
            <a:br>
              <a:rPr sz="4800"/>
            </a:br>
            <a:r>
              <a:rPr b="1" i="1" lang="kk-KZ" sz="4800" spc="-1" strike="noStrike">
                <a:solidFill>
                  <a:srgbClr val="ffffcc"/>
                </a:solidFill>
                <a:latin typeface="Times New Roman"/>
              </a:rPr>
              <a:t>Қаржылық саясат және қаржылық механизм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390000"/>
                </a:solidFill>
                <a:uFillTx/>
                <a:latin typeface="Times New Roman"/>
                <a:ea typeface="Times New Roman"/>
              </a:rPr>
              <a:t>Қазіргі кезеңде қаржы саясатының көмегімен шешілетін басты міндеттер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Елдің дамуының әрбір нақты кезеңінің ерекшеліктері негізінде қаржы ресурстарының неғұрлым мүмкін болатын көлемін жасаудың жағдайларын қамтамасыз е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Қаржы ресурстарын қоғамдық өндірістің сфералары арасында, ұлттық шаруашылық секторлары арасында ұтымды бөлу және пайдалану, ресурстарды белгілі бір мақсаттарға бағытта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 Экономикалық дамудың белгіленген бағыттарын орындау үшін тиісті қаржы механизмін жасап, оны үнемі жетілдіріп оты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8-конечная звезда 3"/>
          <p:cNvSpPr/>
          <p:nvPr/>
        </p:nvSpPr>
        <p:spPr>
          <a:xfrm>
            <a:off x="762120" y="380880"/>
            <a:ext cx="7619760" cy="5867640"/>
          </a:xfrm>
          <a:custGeom>
            <a:avLst/>
            <a:gdLst>
              <a:gd name="textAreaLeft" fmla="*/ 1789200 w 7619760"/>
              <a:gd name="textAreaRight" fmla="*/ 5830560 w 7619760"/>
              <a:gd name="textAreaTop" fmla="*/ 1377720 h 5867640"/>
              <a:gd name="textAreaBottom" fmla="*/ 4489920 h 586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KZ Times New Roman"/>
                <a:ea typeface="Times New Roman"/>
              </a:rPr>
              <a:t>Қаржы саясаты</a:t>
            </a:r>
            <a:r>
              <a:rPr b="0" lang="kk-KZ" sz="1800" spc="-1" strike="noStrike">
                <a:solidFill>
                  <a:srgbClr val="ffffff"/>
                </a:solidFill>
                <a:latin typeface="KZ Times New Roman"/>
                <a:ea typeface="Times New Roman"/>
              </a:rPr>
              <a:t> - бұл қоғамның әлеуметтік-экономикалық дамуы жөніндегі міндеттерді шешу үшін қаржыны пайдалану жөніндегі мемлекеттің нысаналы қызметі, қаржыны басқарудың түпкілікті мақсаты, оның нақтылы нәтижесі. Ол мемлекеттің экономикалық саясатының құрамды бөлігі болып табыла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imes New Roman"/>
              </a:rPr>
              <a:t>Қаржылық саясаттың міндеттері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Елдің дамуының нақты сатысының ерекшелігі негізінде қаржылық ресурстар көлемін қалыптастыруға жағдай жаса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Қаржы ресурстарын қоғамдық өндіріс,шаруашылық секторлары арасында нақты бөлу және пайдала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Ресурстарды нақты мақсатқа жұмса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Экономикалық бағытын орындау үшін қаржылық механизм жаса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imes New Roman"/>
              </a:rPr>
              <a:t>Мемлекеттің қаржылық саясат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 u="sng">
                <a:solidFill>
                  <a:srgbClr val="ffffff"/>
                </a:solidFill>
                <a:uFillTx/>
                <a:latin typeface="Times New Roman"/>
              </a:rPr>
              <a:t>Қаржылық стратегия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-келешекке есептелген және экономика мен қоғамның әлеуметтік дамуының ірі мәселелерін шешуді қарастыратын ұзақ мерзімді бағы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 u="sng">
                <a:solidFill>
                  <a:srgbClr val="ffffff"/>
                </a:solidFill>
                <a:uFillTx/>
                <a:latin typeface="Times New Roman"/>
              </a:rPr>
              <a:t>Қаржылық тактика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-елдің дамуының белгілі сатысындағы мәселелерді шешу және қаржылық қатынастарды ұйымдастыру тәсілдерін уақытында өзгерту жолымен дамуды қамтамасыз е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imes New Roman"/>
              </a:rPr>
              <a:t>Қаржылық саясат қағидалар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Қаржылық қатынастарды тиімді ұйымдастыруды қамтамасыз ет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емлекеттік қаржы кірісі мен шығысын теңестір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емлекет резервін және әлеуметтік қорлар құр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Қаржы ресурстарын оптимал түрде бө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cc"/>
                </a:solidFill>
                <a:latin typeface="Times New Roman"/>
              </a:rPr>
              <a:t>Қаржылық механизм</a:t>
            </a:r>
            <a:r>
              <a:rPr b="0" lang="kk-KZ" sz="2800" spc="-1" strike="noStrike">
                <a:solidFill>
                  <a:srgbClr val="ffffcc"/>
                </a:solidFill>
                <a:latin typeface="Times New Roman"/>
              </a:rPr>
              <a:t> – экономика мен қоғамдағы қаржыны басқару жүйесіндегі белсенді элемент,қаржылық қатынастарды  ұйымдастыру түрлері,формалары мен әдістерін,оларды саны жағынан анықтау тәсілдерін қамтиды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4" descr="20033992"/>
          <p:cNvPicPr/>
          <p:nvPr/>
        </p:nvPicPr>
        <p:blipFill>
          <a:blip r:embed="rId1"/>
          <a:stretch/>
        </p:blipFill>
        <p:spPr>
          <a:xfrm>
            <a:off x="2362320" y="3733920"/>
            <a:ext cx="36129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Қаржы саясатын жүргізгенде оның мына </a:t>
            </a:r>
            <a:r>
              <a:rPr b="1" i="1" lang="kk-K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қағидаларын</a:t>
            </a:r>
            <a:r>
              <a:rPr b="1" lang="kk-K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жүзеге асырады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қатынастарының жоспарлы ұйымдастырылуын қамтамасыз е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жүйесінің барлық сфералары мен буындарында  кірістер мен шығыстардың теңгерімділігі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резевтерін жасау (бюджет жүйесінде кірістердің шығыстардан және салалық қаржыларда қаржы резевтерінің асып түсуі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лекет пен шаруашылық жүргізуші субъектілердің арасындағы қаржы ресурстарын оңтайлы бөл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ндеттерді шешуді қарастыратын қаржы саясатының ұзақ мерзімді курс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cc"/>
                </a:solidFill>
                <a:latin typeface="Times New Roman"/>
              </a:rPr>
              <a:t>Қаржы механизмінің құрылым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Ішкі жүйе(бөлі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лок(зве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Эле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109367539864_image"/>
          <p:cNvPicPr/>
          <p:nvPr/>
        </p:nvPicPr>
        <p:blipFill>
          <a:blip r:embed="rId1"/>
          <a:stretch/>
        </p:blipFill>
        <p:spPr>
          <a:xfrm>
            <a:off x="4038480" y="2362320"/>
            <a:ext cx="44197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3"/>
          <p:cNvSpPr/>
          <p:nvPr/>
        </p:nvSpPr>
        <p:spPr>
          <a:xfrm>
            <a:off x="2895480" y="3276720"/>
            <a:ext cx="2971800" cy="9144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АРЖЫ ТҰТҚАЛАР МЕН ЫНТАЛАНДЫРМАЛ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838080" y="4724280"/>
            <a:ext cx="1524240" cy="9144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аржы әдістері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838080" y="4191120"/>
            <a:ext cx="7772400" cy="53316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ЛОКТ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2362320" y="4724280"/>
            <a:ext cx="1447560" cy="9144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тұтқала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838080" y="2743200"/>
            <a:ext cx="7772400" cy="5335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ОСАЛҚЫ ЖҮЙЕЛ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838080" y="2209680"/>
            <a:ext cx="7772400" cy="5335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АРЖЫ МЕХАНИЗМІ (ЖҮЙЕ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3809880" y="4724280"/>
            <a:ext cx="1676520" cy="9144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ұқықтық қамтамасыз 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5486400" y="4724280"/>
            <a:ext cx="1523880" cy="9144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Нормативтік қамтамасыз 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838080" y="3276720"/>
            <a:ext cx="2057400" cy="9144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АРЖЫЛЫҚ ЖОСПАРЛА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5867280" y="3276720"/>
            <a:ext cx="2743200" cy="9144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ҰЙЫМДЫҚ ҚҰРЫЛЫМ ЖӘНЕ ҚҰҚЫҚ РЕЖІ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Прямоугольник 13"/>
          <p:cNvSpPr/>
          <p:nvPr/>
        </p:nvSpPr>
        <p:spPr>
          <a:xfrm>
            <a:off x="7010280" y="4724280"/>
            <a:ext cx="1600200" cy="9144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Нормативтік қамтамасыз 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ahoma"/>
              </a:rPr>
              <a:t>Қаржы механизмі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Times New Roman"/>
              </a:rPr>
              <a:t>Қаржылық жоспарлау</a:t>
            </a:r>
            <a:r>
              <a:rPr b="0" lang="kk-KZ" sz="3200" spc="-1" strike="noStrike">
                <a:solidFill>
                  <a:srgbClr val="ffffcc"/>
                </a:solidFill>
                <a:latin typeface="Times New Roman"/>
              </a:rPr>
              <a:t> – белгіленген мақсаттарға жетуге бағытталған және қоғамда қаржы ресурстарын,орталықтандырылмаған,орталықтандырылған және нақты ақшалай жинақтар,қорлар құруға бағытталған нақты ақша қорларын қалыптастыру,бөлу,пайдаланудың барлық сфераларын қамтитын қаржылық жоспар дайындау,қарастырылған мерзімде олардың орындалуын ұйымдастыру процесі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оспа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Қаржылық саясат түсінігі, мемлекеттің экономикалық және әлеуметтік саясатындағы оның ор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Фискальдық саяса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Қаржылық саясаттың міндеттері, мақсаттары, қағидалары мен сатыл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Қаржылық саясатты жүзеге асырудың арнайы құралы ретіндегі қаржылық механиз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Қаржылық механизмнің мазмұны мен құрылымы. Қаржылық аппарат, оның құрылы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Қаржылық жоспарлау мазмұ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imes New Roman"/>
              </a:rPr>
              <a:t>Қаржылық жоспарлау әдістері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аланст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ағдарламалық-мақсатты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Экономикалық-математика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Нормативті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Экстрапо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ffffff"/>
                </a:solidFill>
                <a:uFillTx/>
                <a:latin typeface="Times New Roman"/>
              </a:rPr>
              <a:t>Мақсаты:</a:t>
            </a:r>
            <a:r>
              <a:rPr b="0" lang="kk-KZ" sz="4000" spc="-1" strike="noStrike">
                <a:solidFill>
                  <a:srgbClr val="ffffcc"/>
                </a:solidFill>
                <a:latin typeface="Times New Roman"/>
              </a:rPr>
              <a:t>Мемлекеттің қаржылық саясаты мазмұнымен, қаржылық механизм құрылымымен таныстыру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ffffff"/>
                </a:solidFill>
                <a:uFillTx/>
                <a:latin typeface="Times New Roman"/>
              </a:rPr>
              <a:t>Міндеттері:</a:t>
            </a:r>
            <a:r>
              <a:rPr b="0" lang="kk-KZ" sz="4000" spc="-1" strike="noStrike">
                <a:solidFill>
                  <a:srgbClr val="ffffcc"/>
                </a:solidFill>
                <a:latin typeface="Times New Roman"/>
              </a:rPr>
              <a:t>қаржылық саясат түсінігін,мемлекеттің экономикалық және әлеуметтік саясаттағы оның орны мен ролін,қаржылық механизм мазмұны мен құрылымын;қаржылық жоспарлау қағидалары,әдістері мен сатыларын;қаржылық қатынастарды құқықтық реттеуді,қаржылық бақылауды игеру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143000" y="8380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cc"/>
                </a:solidFill>
                <a:latin typeface="Times New Roman"/>
              </a:rPr>
              <a:t>Қаржылық саясат дегеніміз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қоғамның әлеуметтік-экономикалық даму бойвнша мәселелерді шешу үшін қаржыны пайдалану бойынша мемлекеттің мақсатты қызмет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дербес қызмет сферасы мен экономикалық саясаттың құрамдас бөліг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dollar"/>
          <p:cNvPicPr/>
          <p:nvPr/>
        </p:nvPicPr>
        <p:blipFill>
          <a:blip r:embed="rId1"/>
          <a:stretch/>
        </p:blipFill>
        <p:spPr>
          <a:xfrm>
            <a:off x="5791320" y="4724280"/>
            <a:ext cx="29908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зақстан Республикасыны</a:t>
            </a:r>
            <a:r>
              <a:rPr b="1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қаржы жүйес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9" name="Прямая со стрелкой 4"/>
          <p:cNvCxnSpPr/>
          <p:nvPr/>
        </p:nvCxnSpPr>
        <p:spPr>
          <a:xfrm flipH="1">
            <a:off x="2514240" y="914040"/>
            <a:ext cx="534240" cy="61020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100" name="Прямая со стрелкой 9"/>
          <p:cNvCxnSpPr/>
          <p:nvPr/>
        </p:nvCxnSpPr>
        <p:spPr>
          <a:xfrm flipH="1">
            <a:off x="4266360" y="763560"/>
            <a:ext cx="2520" cy="129456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101" name="Прямая со стрелкой 14"/>
          <p:cNvCxnSpPr/>
          <p:nvPr/>
        </p:nvCxnSpPr>
        <p:spPr>
          <a:xfrm>
            <a:off x="5790240" y="837720"/>
            <a:ext cx="533880" cy="68652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sp>
        <p:nvSpPr>
          <p:cNvPr id="102" name="Прямоугольник 22"/>
          <p:cNvSpPr/>
          <p:nvPr/>
        </p:nvSpPr>
        <p:spPr>
          <a:xfrm>
            <a:off x="768600" y="152388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лпымемлекеттік қарж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24"/>
          <p:cNvSpPr/>
          <p:nvPr/>
        </p:nvSpPr>
        <p:spPr>
          <a:xfrm>
            <a:off x="2209680" y="20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руашылық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үргізуші субъе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ілердің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қаржы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743200" y="1600200"/>
          <a:ext cx="6095880" cy="274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468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Прямоугольник 28"/>
          <p:cNvSpPr/>
          <p:nvPr/>
        </p:nvSpPr>
        <p:spPr>
          <a:xfrm>
            <a:off x="5029200" y="15238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лықтың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Үй шаруа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ылығынің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қаржы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31"/>
          <p:cNvSpPr/>
          <p:nvPr/>
        </p:nvSpPr>
        <p:spPr>
          <a:xfrm>
            <a:off x="0" y="2133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Мемлекетті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323064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33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ды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өндіріс сферасының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Прямоугольник 34"/>
          <p:cNvSpPr/>
          <p:nvPr/>
        </p:nvSpPr>
        <p:spPr>
          <a:xfrm>
            <a:off x="990720" y="2438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наул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тең тыс қорл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-111240" y="3124080"/>
            <a:ext cx="23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лекеттік кред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Прямая со стрелкой 41"/>
          <p:cNvCxnSpPr/>
          <p:nvPr/>
        </p:nvCxnSpPr>
        <p:spPr>
          <a:xfrm flipH="1">
            <a:off x="1066320" y="1905120"/>
            <a:ext cx="154800" cy="38304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111" name="Прямая со стрелкой 46"/>
          <p:cNvCxnSpPr/>
          <p:nvPr/>
        </p:nvCxnSpPr>
        <p:spPr>
          <a:xfrm flipH="1">
            <a:off x="2131200" y="2058480"/>
            <a:ext cx="3960" cy="38196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112" name="Прямая со стрелкой 48"/>
          <p:cNvCxnSpPr/>
          <p:nvPr/>
        </p:nvCxnSpPr>
        <p:spPr>
          <a:xfrm flipH="1">
            <a:off x="990360" y="1981080"/>
            <a:ext cx="762480" cy="106776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sp>
        <p:nvSpPr>
          <p:cNvPr id="113" name="Rectangle 9"/>
          <p:cNvSpPr/>
          <p:nvPr/>
        </p:nvSpPr>
        <p:spPr>
          <a:xfrm>
            <a:off x="5257800" y="282096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Өндірістік емес сферасының қаржы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Прямая со стрелкой 60"/>
          <p:cNvCxnSpPr/>
          <p:nvPr/>
        </p:nvCxnSpPr>
        <p:spPr>
          <a:xfrm flipH="1">
            <a:off x="4570200" y="2897280"/>
            <a:ext cx="3600" cy="38160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115" name="Прямая со стрелкой 62"/>
          <p:cNvCxnSpPr/>
          <p:nvPr/>
        </p:nvCxnSpPr>
        <p:spPr>
          <a:xfrm>
            <a:off x="5181480" y="2514600"/>
            <a:ext cx="457920" cy="45792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sp>
        <p:nvSpPr>
          <p:cNvPr id="116" name="Rectangle 10"/>
          <p:cNvSpPr/>
          <p:nvPr/>
        </p:nvSpPr>
        <p:spPr>
          <a:xfrm>
            <a:off x="152280" y="5108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талықтандырылған қаржыла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876920" y="518508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талықтандырылмаған қаржыла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Стрелка вниз 68"/>
          <p:cNvSpPr/>
          <p:nvPr/>
        </p:nvSpPr>
        <p:spPr>
          <a:xfrm>
            <a:off x="1523880" y="3733920"/>
            <a:ext cx="484200" cy="12952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Стрелка вниз 69"/>
          <p:cNvSpPr/>
          <p:nvPr/>
        </p:nvSpPr>
        <p:spPr>
          <a:xfrm>
            <a:off x="6324480" y="3581280"/>
            <a:ext cx="484200" cy="144792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саясатының мақсаты</a:t>
            </a:r>
            <a:r>
              <a:rPr b="0" i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қоғам дамуының аса манызды қажеттіліктерін қанағаттандыруға қажет қаржы  ресурстарын толық жұмылдыру. Осыған байланысты қаржы саясаты кәсіпкерлік қызметті жандандыра түсуге қолайлы жағдайлар жасауға шақыра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0880" y="609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саясатын жүргізгенде оның мына </a:t>
            </a:r>
            <a:r>
              <a:rPr b="1" i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ғидаларын</a:t>
            </a:r>
            <a:r>
              <a:rPr b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жүзеге асыра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қатынастарының жоспарлы ұйымдастырылуын қамтамасыз ет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жүйесінің барлық сфералары мен буындарында  кірістер мен шығыстардың теңгерімділігі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резевтерін жасау (бюджет жүйесінде кірістердің шығыстардан және салалық қаржыларда қаржы резевтерінің асып түсуі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лекет пен шаруашылық жүргізуші субъектілердің арасындағы қаржы ресурстарын оңтайлы бөл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imes New Roman"/>
              </a:rPr>
              <a:t>Қаржылық саясаттың мазмұ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Двойная волна 3"/>
          <p:cNvSpPr/>
          <p:nvPr/>
        </p:nvSpPr>
        <p:spPr>
          <a:xfrm>
            <a:off x="914400" y="1676520"/>
            <a:ext cx="7238880" cy="3962160"/>
          </a:xfrm>
          <a:custGeom>
            <a:avLst/>
            <a:gdLst>
              <a:gd name="textAreaLeft" fmla="*/ 0 w 7238880"/>
              <a:gd name="textAreaRight" fmla="*/ 7239240 w 7238880"/>
              <a:gd name="textAreaTop" fmla="*/ 495000 h 3962160"/>
              <a:gd name="textAreaBottom" fmla="*/ 3467160 h 396216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де экономикалық заңдардың әрекет етуі негізінде қаржыны дамытудың ғылыми негізі бар тұжырымдамасын жаса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иканың жағдайы және қоғамның әлеуметтік-экономикалық даму келешегін игер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икалық саясаттың стратегиялық және тактикалық шараларын қалыптастыр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0:15:47Z</dcterms:created>
  <dc:creator>UserLib</dc:creator>
  <dc:description/>
  <dc:language>en-US</dc:language>
  <cp:lastModifiedBy>Admin</cp:lastModifiedBy>
  <dcterms:modified xsi:type="dcterms:W3CDTF">2012-01-12T10:54:51Z</dcterms:modified>
  <cp:revision>17</cp:revision>
  <dc:subject/>
  <dc:title>Ќаржылыќ саясат жјне ќаржылыќ механизм</dc:title>
</cp:coreProperties>
</file>